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87C-7EF9-4EA5-A446-B6E5C8BD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C47-DA9B-4DFB-ACB2-43037271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AC9-1E60-46F8-98B4-AE4ED1A9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E07-FDBA-49E2-B45E-B35B7CFB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9601-20A8-4507-91A0-024EEAB4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D741-17B9-40A0-8695-CCE30298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3BAA-0A50-4733-9F89-832544E6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C655-1450-4756-972F-2570712E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562A-93B6-4762-9E2B-1686737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4D18-3F9D-4380-A2C4-09209B4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A883-5474-4870-B710-63A2FE43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E2C-37AD-419E-A2FB-A9A01E2E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6343-F1BA-45FD-9416-55D06533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A581-523C-42AA-88F3-18E47A7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CA66-95E9-452B-91A3-40C7870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E53C-DD23-407F-8225-E6F3251F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F21B-DE59-4781-82D4-412C627D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FC5E-DE7E-4D1D-9710-872A1F04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1BCB-41FF-46BE-9EEA-610BBB71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28D3-4DD1-4F4F-B3D4-60EABFE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EF1F-C50C-4101-A9D5-2ECA2C38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473D-1290-4E70-BB19-0E0375BC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9C1-DE6D-46A7-A8CA-41B9535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2100-0BFB-4292-9305-69F6721E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8815-55C8-487B-8613-3905ACB3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8707-18C2-4EA4-9C21-DD2D217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1A3F-13E5-4EF3-A6FC-2A4AE155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BBFB-DF80-4EAD-B8E1-25F2346F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AA5F-B769-4DAA-8F1B-41B21C5B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2442-947D-4909-B02F-883A884A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23C2F-DDFF-41D8-AA50-CDB4DA3B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46F6-7DA2-4F02-98ED-2BA512BB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0714-F9D1-4416-B9C4-4D28218E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233-60C4-4DBB-9426-89BE05DC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2C86-E9F1-4B30-8720-7030BADA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3D2F-E20D-4C14-A012-6D6222CB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DAEA-A1E9-425C-A4DD-EE372909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4C4D-D9F1-4455-A30B-C42D3F00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BD6E-A61C-458B-99E8-7B3F2106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FA76-BB20-427D-AE25-653EFA5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1890-1E3C-4851-8BCC-97E4BDC0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C06E-EE9C-4977-9F90-6BD1EE36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EF6B-2D07-4B56-838F-120D7D6C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ECD68-E8B1-4EC3-B055-F947EA30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09D-3E65-4BDC-B355-6F6AF485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BA06D-2769-4D2D-8957-E4163E68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B3276-3C6D-488E-8B4C-867D1999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19C0E-F056-4E73-8EBC-9F8F03C1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33CB7-0FAA-47D7-8BD4-837ABFE8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D2C7-22C6-4B6D-A9A6-B928B4FD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C40AC-DC11-49FA-B04C-25C02599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6075-FAF3-4D5D-87F3-4AAB6C5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2D9B5-813D-44BA-9E7A-903EC64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B1AE-4997-44F9-B06F-82D5B9E2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47CB5-8CEA-488B-99DA-C641E502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232-247D-4703-87E0-18739960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ED10C-E767-4C15-8297-220D087E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4AC2C-0220-428D-AEDA-0299F0E5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1F1F-1272-44AD-96F6-9D970D5A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89784-4231-4700-95BE-5AF82972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A8010-4BF1-4831-819F-F8CC0BD6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533C9-5E97-43B3-9EDB-14D7116A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10F99-45F8-4546-AE29-6168FB52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D4C09-6B4E-42A2-B02C-C3A30F8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3E23-A696-4D8F-AAEB-AC9659DF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F2B40-725F-465B-B496-99D38E35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AFD-C235-458A-A48E-04925BB6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1A812-652C-4B4A-89B0-0DD65276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DBFDD-1171-4CB8-8E2E-3B367C1D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07301-5D7F-4982-87C7-4D01FB9B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042C8-55AA-45F5-A250-51EE8D5A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1A3CB-A87C-4F10-ADC9-DAFEC9D4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8992C-E871-4070-8735-429CFF6F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884A2-0FE9-42A8-93FF-8D55826F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CC820-4668-43FF-AEFB-9FE65B7F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487A9-A6FB-4CF8-9C7E-AE9844B3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3EB65-45CA-4A6B-95CE-877E1FE0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37C-9079-446F-9AE5-8425994D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A909-DBC4-4794-8B3E-506C2CFA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CE9B6-83EC-4736-B70C-7BACBE09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BB234-F7A0-4EC5-8385-AFC4E6D5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6BB4C-F8F5-415F-B6A8-20812934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80A8-12BB-451B-8D83-D0B9FAC4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7C9DC-2B7E-40E6-BC8A-80754C70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DA61E-3BD8-4364-AB1A-3651792A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7302-E0A5-4CB5-9251-4D78181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401C1-AF47-4B6A-A5EC-77714ED7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F0EF9-EAFE-4A72-8C4F-6480640C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364-09FB-40EA-9F33-DEB17594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DCA2F-38FF-4266-949D-E68D30D6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BEAE7-B9C1-4764-AFF9-6CD1439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BF736-7607-409F-B53F-915F2698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BEED1-470D-4A70-86AD-42DEC40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6A7F-BABB-4FF1-AC2E-69B46012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127C9-39A1-4A9B-894F-D59EC52B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9FA6-D63B-4B94-B201-E6BA8A6B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4BC1-D860-45FA-8989-40AB8B1F22A2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DFC4-66C1-4848-8F68-36CC9FFFE11D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2008-D5DD-47ED-A7AA-B071B1477560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1F5C-14EA-4C0A-887C-70D6FEB78450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2701-94F9-4638-85AC-6A99B9855D39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E02-99D6-47C6-BE50-4F7C0B0F0FBA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F9B-E01A-4737-BD20-005230BC9EA5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50A9-2C6C-482A-BC2D-C5A8BC140AFD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2.ignatius.edu/faculty/decarlo/Centripetal%20force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gsir.netfirms.com/englishhtm/ConicalPendulum.ht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With systems that convert kinetic energy into potential energy account must be taken for motion in a circ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 good example of this would be a glider that performs a loop after a d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4"/>
          <p:cNvSpPr/>
          <p:nvPr/>
        </p:nvSpPr>
        <p:spPr>
          <a:xfrm>
            <a:off x="1982880" y="4199040"/>
            <a:ext cx="3825720" cy="1569960"/>
          </a:xfrm>
          <a:custGeom>
            <a:avLst/>
            <a:gdLst/>
            <a:ahLst/>
            <a:rect l="l" t="t" r="r" b="b"/>
            <a:pathLst>
              <a:path w="3825026" h="1571222">
                <a:moveTo>
                  <a:pt x="0" y="0"/>
                </a:moveTo>
                <a:cubicBezTo>
                  <a:pt x="568817" y="533400"/>
                  <a:pt x="1137634" y="1066800"/>
                  <a:pt x="1584102" y="1313645"/>
                </a:cubicBezTo>
                <a:cubicBezTo>
                  <a:pt x="2030570" y="1560490"/>
                  <a:pt x="2427668" y="1519707"/>
                  <a:pt x="2678806" y="1481070"/>
                </a:cubicBezTo>
                <a:cubicBezTo>
                  <a:pt x="2929944" y="1442433"/>
                  <a:pt x="3041561" y="1223493"/>
                  <a:pt x="3090930" y="1081825"/>
                </a:cubicBezTo>
                <a:cubicBezTo>
                  <a:pt x="3140299" y="940157"/>
                  <a:pt x="3067319" y="716923"/>
                  <a:pt x="2975020" y="631064"/>
                </a:cubicBezTo>
                <a:cubicBezTo>
                  <a:pt x="2882722" y="545205"/>
                  <a:pt x="2661635" y="560231"/>
                  <a:pt x="2537139" y="566670"/>
                </a:cubicBezTo>
                <a:cubicBezTo>
                  <a:pt x="2412643" y="573109"/>
                  <a:pt x="2298880" y="601014"/>
                  <a:pt x="2228046" y="669701"/>
                </a:cubicBezTo>
                <a:cubicBezTo>
                  <a:pt x="2157212" y="738388"/>
                  <a:pt x="2116429" y="895081"/>
                  <a:pt x="2112136" y="978794"/>
                </a:cubicBezTo>
                <a:cubicBezTo>
                  <a:pt x="2107843" y="1062507"/>
                  <a:pt x="2148626" y="1103290"/>
                  <a:pt x="2202288" y="1171977"/>
                </a:cubicBezTo>
                <a:cubicBezTo>
                  <a:pt x="2255950" y="1240664"/>
                  <a:pt x="2335370" y="1328670"/>
                  <a:pt x="2434108" y="1390918"/>
                </a:cubicBezTo>
                <a:cubicBezTo>
                  <a:pt x="2532846" y="1453166"/>
                  <a:pt x="2717443" y="1519706"/>
                  <a:pt x="2794716" y="1545464"/>
                </a:cubicBezTo>
                <a:cubicBezTo>
                  <a:pt x="2871989" y="1571222"/>
                  <a:pt x="2897747" y="1545464"/>
                  <a:pt x="2897747" y="1545464"/>
                </a:cubicBezTo>
                <a:lnTo>
                  <a:pt x="3825026" y="1558343"/>
                </a:lnTo>
                <a:lnTo>
                  <a:pt x="3825026" y="1558343"/>
                </a:lnTo>
              </a:path>
            </a:pathLst>
          </a:custGeom>
          <a:noFill/>
          <a:ln w="9360">
            <a:solidFill>
              <a:srgbClr val="2da2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1339920" y="3592440"/>
            <a:ext cx="1206360" cy="966960"/>
            <a:chOff x="1339920" y="3592440"/>
            <a:chExt cx="1206360" cy="966960"/>
          </a:xfrm>
        </p:grpSpPr>
        <p:sp>
          <p:nvSpPr>
            <p:cNvPr id="446" name="Freeform 5"/>
            <p:cNvSpPr/>
            <p:nvPr/>
          </p:nvSpPr>
          <p:spPr>
            <a:xfrm>
              <a:off x="1339920" y="3885120"/>
              <a:ext cx="1206360" cy="308520"/>
            </a:xfrm>
            <a:custGeom>
              <a:avLst/>
              <a:gdLst/>
              <a:ahLst/>
              <a:rect l="l" t="t" r="r" b="b"/>
              <a:pathLst>
                <a:path w="1207549" h="308425">
                  <a:moveTo>
                    <a:pt x="77273" y="222854"/>
                  </a:moveTo>
                  <a:cubicBezTo>
                    <a:pt x="81566" y="154167"/>
                    <a:pt x="68389" y="82082"/>
                    <a:pt x="90152" y="16792"/>
                  </a:cubicBezTo>
                  <a:cubicBezTo>
                    <a:pt x="95749" y="0"/>
                    <a:pt x="127846" y="18613"/>
                    <a:pt x="141667" y="29670"/>
                  </a:cubicBezTo>
                  <a:cubicBezTo>
                    <a:pt x="152268" y="38151"/>
                    <a:pt x="151253" y="55137"/>
                    <a:pt x="154546" y="68307"/>
                  </a:cubicBezTo>
                  <a:cubicBezTo>
                    <a:pt x="170998" y="134114"/>
                    <a:pt x="148832" y="157049"/>
                    <a:pt x="244698" y="158459"/>
                  </a:cubicBezTo>
                  <a:lnTo>
                    <a:pt x="1120462" y="171338"/>
                  </a:lnTo>
                  <a:cubicBezTo>
                    <a:pt x="1125860" y="179435"/>
                    <a:pt x="1207549" y="282883"/>
                    <a:pt x="1133341" y="287248"/>
                  </a:cubicBezTo>
                  <a:cubicBezTo>
                    <a:pt x="773329" y="308425"/>
                    <a:pt x="412124" y="278662"/>
                    <a:pt x="51515" y="274369"/>
                  </a:cubicBezTo>
                  <a:cubicBezTo>
                    <a:pt x="17172" y="262921"/>
                    <a:pt x="0" y="268645"/>
                    <a:pt x="0" y="222854"/>
                  </a:cubicBezTo>
                  <a:lnTo>
                    <a:pt x="12879" y="2099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1789560" y="3592440"/>
              <a:ext cx="519480" cy="479160"/>
            </a:xfrm>
            <a:custGeom>
              <a:avLst/>
              <a:gdLst/>
              <a:ahLst/>
              <a:rect l="l" t="t" r="r" b="b"/>
              <a:pathLst>
                <a:path w="519856" h="478519">
                  <a:moveTo>
                    <a:pt x="13526" y="463639"/>
                  </a:moveTo>
                  <a:cubicBezTo>
                    <a:pt x="55792" y="294579"/>
                    <a:pt x="0" y="478519"/>
                    <a:pt x="271104" y="180304"/>
                  </a:cubicBezTo>
                  <a:cubicBezTo>
                    <a:pt x="283011" y="167207"/>
                    <a:pt x="279120" y="145807"/>
                    <a:pt x="283983" y="128788"/>
                  </a:cubicBezTo>
                  <a:cubicBezTo>
                    <a:pt x="287712" y="115735"/>
                    <a:pt x="291514" y="102630"/>
                    <a:pt x="296861" y="90152"/>
                  </a:cubicBezTo>
                  <a:cubicBezTo>
                    <a:pt x="304424" y="72505"/>
                    <a:pt x="310328" y="53385"/>
                    <a:pt x="322619" y="38636"/>
                  </a:cubicBezTo>
                  <a:cubicBezTo>
                    <a:pt x="341822" y="15592"/>
                    <a:pt x="373523" y="8790"/>
                    <a:pt x="399892" y="0"/>
                  </a:cubicBezTo>
                  <a:cubicBezTo>
                    <a:pt x="434797" y="6981"/>
                    <a:pt x="477657" y="7053"/>
                    <a:pt x="502923" y="38636"/>
                  </a:cubicBezTo>
                  <a:cubicBezTo>
                    <a:pt x="511404" y="49237"/>
                    <a:pt x="511509" y="64394"/>
                    <a:pt x="515802" y="77273"/>
                  </a:cubicBezTo>
                  <a:cubicBezTo>
                    <a:pt x="511509" y="150253"/>
                    <a:pt x="519856" y="225096"/>
                    <a:pt x="502923" y="296214"/>
                  </a:cubicBezTo>
                  <a:cubicBezTo>
                    <a:pt x="497298" y="319838"/>
                    <a:pt x="467212" y="329291"/>
                    <a:pt x="451408" y="347729"/>
                  </a:cubicBezTo>
                  <a:cubicBezTo>
                    <a:pt x="441335" y="359481"/>
                    <a:pt x="436595" y="375421"/>
                    <a:pt x="425650" y="386366"/>
                  </a:cubicBezTo>
                  <a:cubicBezTo>
                    <a:pt x="414705" y="397311"/>
                    <a:pt x="398905" y="402215"/>
                    <a:pt x="387014" y="412124"/>
                  </a:cubicBezTo>
                  <a:cubicBezTo>
                    <a:pt x="373022" y="423784"/>
                    <a:pt x="363532" y="440657"/>
                    <a:pt x="348377" y="450760"/>
                  </a:cubicBezTo>
                  <a:cubicBezTo>
                    <a:pt x="322949" y="467712"/>
                    <a:pt x="299194" y="463639"/>
                    <a:pt x="271104" y="4636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1571400" y="4180320"/>
              <a:ext cx="441000" cy="379080"/>
            </a:xfrm>
            <a:custGeom>
              <a:avLst/>
              <a:gdLst/>
              <a:ahLst/>
              <a:rect l="l" t="t" r="r" b="b"/>
              <a:pathLst>
                <a:path w="441611" h="378700">
                  <a:moveTo>
                    <a:pt x="193183" y="5213"/>
                  </a:moveTo>
                  <a:cubicBezTo>
                    <a:pt x="126430" y="27464"/>
                    <a:pt x="172603" y="0"/>
                    <a:pt x="141667" y="69607"/>
                  </a:cubicBezTo>
                  <a:cubicBezTo>
                    <a:pt x="139270" y="75000"/>
                    <a:pt x="89584" y="157865"/>
                    <a:pt x="77273" y="172638"/>
                  </a:cubicBezTo>
                  <a:cubicBezTo>
                    <a:pt x="65613" y="186630"/>
                    <a:pt x="51515" y="198396"/>
                    <a:pt x="38636" y="211275"/>
                  </a:cubicBezTo>
                  <a:lnTo>
                    <a:pt x="12878" y="288548"/>
                  </a:lnTo>
                  <a:lnTo>
                    <a:pt x="0" y="327185"/>
                  </a:lnTo>
                  <a:cubicBezTo>
                    <a:pt x="4293" y="340064"/>
                    <a:pt x="2278" y="357341"/>
                    <a:pt x="12878" y="365821"/>
                  </a:cubicBezTo>
                  <a:cubicBezTo>
                    <a:pt x="26700" y="376878"/>
                    <a:pt x="46694" y="378700"/>
                    <a:pt x="64394" y="378700"/>
                  </a:cubicBezTo>
                  <a:cubicBezTo>
                    <a:pt x="158937" y="378700"/>
                    <a:pt x="253284" y="370114"/>
                    <a:pt x="347729" y="365821"/>
                  </a:cubicBezTo>
                  <a:cubicBezTo>
                    <a:pt x="390007" y="337636"/>
                    <a:pt x="435513" y="330141"/>
                    <a:pt x="437881" y="275669"/>
                  </a:cubicBezTo>
                  <a:cubicBezTo>
                    <a:pt x="441611" y="189891"/>
                    <a:pt x="437881" y="103951"/>
                    <a:pt x="437881" y="180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Box 9"/>
          <p:cNvSpPr/>
          <p:nvPr/>
        </p:nvSpPr>
        <p:spPr>
          <a:xfrm>
            <a:off x="5857920" y="350028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nergy converts from: Potential.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kinetic.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circular kinetic.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kinetic.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264600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1"/>
          <p:cNvSpPr/>
          <p:nvPr/>
        </p:nvSpPr>
        <p:spPr>
          <a:xfrm>
            <a:off x="4003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2"/>
          <p:cNvSpPr/>
          <p:nvPr/>
        </p:nvSpPr>
        <p:spPr>
          <a:xfrm>
            <a:off x="5860800" y="54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443196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Motion in a circle at a constant speed gives you centripetal acceleration, and thus a centripetal for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N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*v</a:t>
            </a:r>
            <a:r>
              <a:rPr b="0" lang="en-NZ" sz="27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ttp://www2.ignatius.edu/faculty/decarlo/Image67.gif"/>
          <p:cNvPicPr/>
          <p:nvPr/>
        </p:nvPicPr>
        <p:blipFill>
          <a:blip r:embed="rId2"/>
          <a:stretch/>
        </p:blipFill>
        <p:spPr>
          <a:xfrm>
            <a:off x="4857840" y="2857680"/>
            <a:ext cx="2876400" cy="25430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5"/>
          <p:cNvSpPr/>
          <p:nvPr/>
        </p:nvSpPr>
        <p:spPr>
          <a:xfrm>
            <a:off x="993240" y="5643720"/>
            <a:ext cx="739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2.ignatius.edu/faculty/decarlo/Centripetal%20for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What happens when the thing isn’t swinging in a flat circle, but is actually a pendul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ngsir.netfirms.com/englishhtm/ConicalPendulum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he important thing to resolve from a conical pendulum is the components of each for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10"/>
          <p:cNvGrpSpPr/>
          <p:nvPr/>
        </p:nvGrpSpPr>
        <p:grpSpPr>
          <a:xfrm>
            <a:off x="2000160" y="2928960"/>
            <a:ext cx="1928880" cy="2214720"/>
            <a:chOff x="2000160" y="2928960"/>
            <a:chExt cx="1928880" cy="2214720"/>
          </a:xfrm>
        </p:grpSpPr>
        <p:sp>
          <p:nvSpPr>
            <p:cNvPr id="381" name="Straight Connector 4"/>
            <p:cNvSpPr/>
            <p:nvPr/>
          </p:nvSpPr>
          <p:spPr>
            <a:xfrm flipH="1">
              <a:off x="2142360" y="2928960"/>
              <a:ext cx="857160" cy="1643400"/>
            </a:xfrm>
            <a:prstGeom prst="line">
              <a:avLst/>
            </a:prstGeom>
            <a:ln w="381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2000160" y="4500720"/>
              <a:ext cx="28548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6"/>
            <p:cNvSpPr/>
            <p:nvPr/>
          </p:nvSpPr>
          <p:spPr>
            <a:xfrm>
              <a:off x="2214360" y="4071960"/>
              <a:ext cx="1714680" cy="1071720"/>
            </a:xfrm>
            <a:prstGeom prst="ellipse">
              <a:avLst/>
            </a:prstGeom>
            <a:noFill/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traight Connector 9"/>
            <p:cNvSpPr/>
            <p:nvPr/>
          </p:nvSpPr>
          <p:spPr>
            <a:xfrm>
              <a:off x="3000240" y="2928960"/>
              <a:ext cx="0" cy="164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1"/>
          <p:cNvSpPr/>
          <p:nvPr/>
        </p:nvSpPr>
        <p:spPr>
          <a:xfrm>
            <a:off x="5429160" y="4572000"/>
            <a:ext cx="357120" cy="2858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"/>
          <p:cNvCxnSpPr/>
          <p:nvPr/>
        </p:nvCxnSpPr>
        <p:spPr>
          <a:xfrm flipV="1">
            <a:off x="5571000" y="3642480"/>
            <a:ext cx="786600" cy="1072440"/>
          </a:xfrm>
          <a:prstGeom prst="straightConnector1">
            <a:avLst/>
          </a:prstGeom>
          <a:ln w="38160">
            <a:solidFill>
              <a:srgbClr val="da1f28"/>
            </a:solidFill>
            <a:miter/>
            <a:tailEnd len="med" type="arrow" w="med"/>
          </a:ln>
        </p:spPr>
      </p:cxnSp>
      <p:cxnSp>
        <p:nvCxnSpPr>
          <p:cNvPr id="387" name="Straight Arrow Connector 14"/>
          <p:cNvCxnSpPr/>
          <p:nvPr/>
        </p:nvCxnSpPr>
        <p:spPr>
          <a:xfrm flipH="1" flipV="1">
            <a:off x="5571360" y="3642480"/>
            <a:ext cx="2520" cy="1072440"/>
          </a:xfrm>
          <a:prstGeom prst="straightConnector1">
            <a:avLst/>
          </a:prstGeom>
          <a:ln w="38160">
            <a:solidFill>
              <a:srgbClr val="7d3c4a"/>
            </a:solidFill>
            <a:miter/>
            <a:tailEnd len="med" type="arrow" w="med"/>
          </a:ln>
        </p:spPr>
      </p:cxnSp>
      <p:cxnSp>
        <p:nvCxnSpPr>
          <p:cNvPr id="388" name="Straight Arrow Connector 17"/>
          <p:cNvCxnSpPr/>
          <p:nvPr/>
        </p:nvCxnSpPr>
        <p:spPr>
          <a:xfrm flipH="1">
            <a:off x="5571360" y="4642920"/>
            <a:ext cx="2520" cy="1072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Straight Arrow Connector 20"/>
          <p:cNvCxnSpPr/>
          <p:nvPr/>
        </p:nvCxnSpPr>
        <p:spPr>
          <a:xfrm flipV="1">
            <a:off x="5572080" y="4714560"/>
            <a:ext cx="822960" cy="2160"/>
          </a:xfrm>
          <a:prstGeom prst="straightConnector1">
            <a:avLst/>
          </a:prstGeom>
          <a:ln w="38160">
            <a:solidFill>
              <a:srgbClr val="eb641b"/>
            </a:solidFill>
            <a:miter/>
            <a:tailEnd len="med" type="arrow" w="med"/>
          </a:ln>
        </p:spPr>
      </p:cxnSp>
      <p:sp>
        <p:nvSpPr>
          <p:cNvPr id="390" name="TextBox 21"/>
          <p:cNvSpPr/>
          <p:nvPr/>
        </p:nvSpPr>
        <p:spPr>
          <a:xfrm>
            <a:off x="6374880" y="3286080"/>
            <a:ext cx="37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2"/>
          <p:cNvSpPr/>
          <p:nvPr/>
        </p:nvSpPr>
        <p:spPr>
          <a:xfrm>
            <a:off x="6441120" y="457200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3"/>
          <p:cNvSpPr/>
          <p:nvPr/>
        </p:nvSpPr>
        <p:spPr>
          <a:xfrm>
            <a:off x="5369040" y="3286080"/>
            <a:ext cx="36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Lucida Sans Unicode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4"/>
          <p:cNvSpPr/>
          <p:nvPr/>
        </p:nvSpPr>
        <p:spPr>
          <a:xfrm>
            <a:off x="5440680" y="57862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ection 8A #1 and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 neaderthalic nascar driver goes around an icy corner with a radius of 15m in a 740kg car at 12 ms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-1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. Fi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weight for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Centripetal for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 vector diagra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road support for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angle of the roa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 neaderthalic nascar driver goes around an icy corner with a radius of 15m in a 740kg car at 12 ms</a:t>
            </a:r>
            <a:r>
              <a:rPr b="0" lang="en-NZ" sz="2700" spc="-1" strike="noStrike" baseline="30000">
                <a:solidFill>
                  <a:srgbClr val="000000"/>
                </a:solidFill>
                <a:latin typeface="Lucida Sans Unicode"/>
              </a:rPr>
              <a:t>-1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. Fi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weight force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7300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Centripetal force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7100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A vector diagram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See boa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road support force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10 000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he angle of the road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44</a:t>
            </a:r>
            <a:r>
              <a:rPr b="0" lang="en-NZ" sz="2300" spc="-1" strike="noStrike" baseline="30000">
                <a:solidFill>
                  <a:srgbClr val="000000"/>
                </a:solidFill>
                <a:latin typeface="Lucida Sans Unicode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You should now be able to work through the questions in 8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When an object is moving at constant speed in a vertical circle there is a constant change in the force balance that it experi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23"/>
          <p:cNvGrpSpPr/>
          <p:nvPr/>
        </p:nvGrpSpPr>
        <p:grpSpPr>
          <a:xfrm>
            <a:off x="4000320" y="2928600"/>
            <a:ext cx="3786480" cy="3572280"/>
            <a:chOff x="4000320" y="2928600"/>
            <a:chExt cx="3786480" cy="3572280"/>
          </a:xfrm>
        </p:grpSpPr>
        <p:sp>
          <p:nvSpPr>
            <p:cNvPr id="403" name="Oval 4"/>
            <p:cNvSpPr/>
            <p:nvPr/>
          </p:nvSpPr>
          <p:spPr>
            <a:xfrm>
              <a:off x="4572000" y="3429000"/>
              <a:ext cx="2571840" cy="2571840"/>
            </a:xfrm>
            <a:prstGeom prst="ellipse">
              <a:avLst/>
            </a:prstGeom>
            <a:noFill/>
            <a:ln w="55080">
              <a:solidFill>
                <a:srgbClr val="7d3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7072560" y="457200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5715000" y="335736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4429080" y="464364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5786640" y="592956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Down Arrow 9"/>
            <p:cNvSpPr/>
            <p:nvPr/>
          </p:nvSpPr>
          <p:spPr>
            <a:xfrm>
              <a:off x="7143840" y="471492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Down Arrow 10"/>
            <p:cNvSpPr/>
            <p:nvPr/>
          </p:nvSpPr>
          <p:spPr>
            <a:xfrm>
              <a:off x="6000840" y="607248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Down Arrow 11"/>
            <p:cNvSpPr/>
            <p:nvPr/>
          </p:nvSpPr>
          <p:spPr>
            <a:xfrm>
              <a:off x="4500720" y="478620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Down Arrow 12"/>
            <p:cNvSpPr/>
            <p:nvPr/>
          </p:nvSpPr>
          <p:spPr>
            <a:xfrm>
              <a:off x="5786640" y="350028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Down Arrow 13"/>
            <p:cNvSpPr/>
            <p:nvPr/>
          </p:nvSpPr>
          <p:spPr>
            <a:xfrm>
              <a:off x="5786640" y="6072480"/>
              <a:ext cx="71280" cy="428400"/>
            </a:xfrm>
            <a:prstGeom prst="downArrow">
              <a:avLst>
                <a:gd name="adj1" fmla="val 50000"/>
                <a:gd name="adj2" fmla="val 50084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Down Arrow 15"/>
            <p:cNvSpPr/>
            <p:nvPr/>
          </p:nvSpPr>
          <p:spPr>
            <a:xfrm flipV="1" rot="16200000">
              <a:off x="4214520" y="450036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Down Arrow 16"/>
            <p:cNvSpPr/>
            <p:nvPr/>
          </p:nvSpPr>
          <p:spPr>
            <a:xfrm rot="16200000">
              <a:off x="7500960" y="442908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Down Arrow 18"/>
            <p:cNvSpPr/>
            <p:nvPr/>
          </p:nvSpPr>
          <p:spPr>
            <a:xfrm flipV="1">
              <a:off x="5786640" y="292824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24"/>
          <p:cNvGrpSpPr/>
          <p:nvPr/>
        </p:nvGrpSpPr>
        <p:grpSpPr>
          <a:xfrm>
            <a:off x="571680" y="3214800"/>
            <a:ext cx="3377160" cy="1142640"/>
            <a:chOff x="571680" y="3214800"/>
            <a:chExt cx="3377160" cy="1142640"/>
          </a:xfrm>
        </p:grpSpPr>
        <p:sp>
          <p:nvSpPr>
            <p:cNvPr id="417" name="Down Arrow 19"/>
            <p:cNvSpPr/>
            <p:nvPr/>
          </p:nvSpPr>
          <p:spPr>
            <a:xfrm rot="16200000">
              <a:off x="785880" y="328608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Down Arrow 20"/>
            <p:cNvSpPr/>
            <p:nvPr/>
          </p:nvSpPr>
          <p:spPr>
            <a:xfrm>
              <a:off x="714240" y="3929040"/>
              <a:ext cx="45360" cy="428400"/>
            </a:xfrm>
            <a:prstGeom prst="downArrow">
              <a:avLst>
                <a:gd name="adj1" fmla="val 50000"/>
                <a:gd name="adj2" fmla="val 50370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21"/>
            <p:cNvSpPr/>
            <p:nvPr/>
          </p:nvSpPr>
          <p:spPr>
            <a:xfrm>
              <a:off x="1373760" y="3214800"/>
              <a:ext cx="257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eaction force due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Centripetal accel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22"/>
            <p:cNvSpPr/>
            <p:nvPr/>
          </p:nvSpPr>
          <p:spPr>
            <a:xfrm>
              <a:off x="1509480" y="3929040"/>
              <a:ext cx="18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orce of Gra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t the top of the loop 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and F</a:t>
            </a:r>
            <a:r>
              <a:rPr b="0" lang="en-NZ" sz="2700" spc="-1" strike="noStrike" baseline="-25000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 cancel providing a moment of weightlessnes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t the bottom of the loop Fc and Fg combine to give a moment of doubled for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3"/>
          <p:cNvGrpSpPr/>
          <p:nvPr/>
        </p:nvGrpSpPr>
        <p:grpSpPr>
          <a:xfrm>
            <a:off x="4000320" y="3071520"/>
            <a:ext cx="3786480" cy="3572280"/>
            <a:chOff x="4000320" y="3071520"/>
            <a:chExt cx="3786480" cy="3572280"/>
          </a:xfrm>
        </p:grpSpPr>
        <p:sp>
          <p:nvSpPr>
            <p:cNvPr id="424" name="Oval 4"/>
            <p:cNvSpPr/>
            <p:nvPr/>
          </p:nvSpPr>
          <p:spPr>
            <a:xfrm>
              <a:off x="4572000" y="3571920"/>
              <a:ext cx="2571840" cy="2571840"/>
            </a:xfrm>
            <a:prstGeom prst="ellipse">
              <a:avLst/>
            </a:prstGeom>
            <a:noFill/>
            <a:ln w="55080">
              <a:solidFill>
                <a:srgbClr val="7d3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7072560" y="471492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"/>
            <p:cNvSpPr/>
            <p:nvPr/>
          </p:nvSpPr>
          <p:spPr>
            <a:xfrm>
              <a:off x="5715000" y="350028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7"/>
            <p:cNvSpPr/>
            <p:nvPr/>
          </p:nvSpPr>
          <p:spPr>
            <a:xfrm>
              <a:off x="4429080" y="478656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>
              <a:off x="5786640" y="6072480"/>
              <a:ext cx="214200" cy="21420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Down Arrow 9"/>
            <p:cNvSpPr/>
            <p:nvPr/>
          </p:nvSpPr>
          <p:spPr>
            <a:xfrm>
              <a:off x="7143840" y="485784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Down Arrow 10"/>
            <p:cNvSpPr/>
            <p:nvPr/>
          </p:nvSpPr>
          <p:spPr>
            <a:xfrm>
              <a:off x="6000840" y="621540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Down Arrow 11"/>
            <p:cNvSpPr/>
            <p:nvPr/>
          </p:nvSpPr>
          <p:spPr>
            <a:xfrm>
              <a:off x="4500720" y="492912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Down Arrow 12"/>
            <p:cNvSpPr/>
            <p:nvPr/>
          </p:nvSpPr>
          <p:spPr>
            <a:xfrm>
              <a:off x="5786640" y="3643200"/>
              <a:ext cx="45720" cy="428400"/>
            </a:xfrm>
            <a:prstGeom prst="downArrow">
              <a:avLst>
                <a:gd name="adj1" fmla="val 50000"/>
                <a:gd name="adj2" fmla="val 49974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Down Arrow 13"/>
            <p:cNvSpPr/>
            <p:nvPr/>
          </p:nvSpPr>
          <p:spPr>
            <a:xfrm>
              <a:off x="5786640" y="6215400"/>
              <a:ext cx="71280" cy="428400"/>
            </a:xfrm>
            <a:prstGeom prst="downArrow">
              <a:avLst>
                <a:gd name="adj1" fmla="val 50000"/>
                <a:gd name="adj2" fmla="val 50084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Down Arrow 14"/>
            <p:cNvSpPr/>
            <p:nvPr/>
          </p:nvSpPr>
          <p:spPr>
            <a:xfrm flipV="1" rot="16200000">
              <a:off x="4214520" y="464328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Down Arrow 15"/>
            <p:cNvSpPr/>
            <p:nvPr/>
          </p:nvSpPr>
          <p:spPr>
            <a:xfrm rot="16200000">
              <a:off x="7500960" y="457200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Down Arrow 16"/>
            <p:cNvSpPr/>
            <p:nvPr/>
          </p:nvSpPr>
          <p:spPr>
            <a:xfrm flipV="1">
              <a:off x="5786640" y="307116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571680" y="3429000"/>
            <a:ext cx="3377160" cy="1142640"/>
            <a:chOff x="571680" y="3429000"/>
            <a:chExt cx="3377160" cy="1142640"/>
          </a:xfrm>
        </p:grpSpPr>
        <p:sp>
          <p:nvSpPr>
            <p:cNvPr id="438" name="Down Arrow 18"/>
            <p:cNvSpPr/>
            <p:nvPr/>
          </p:nvSpPr>
          <p:spPr>
            <a:xfrm rot="16200000">
              <a:off x="785880" y="3500280"/>
              <a:ext cx="712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00b050"/>
            </a:solidFill>
            <a:ln w="55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Down Arrow 19"/>
            <p:cNvSpPr/>
            <p:nvPr/>
          </p:nvSpPr>
          <p:spPr>
            <a:xfrm>
              <a:off x="714240" y="4143240"/>
              <a:ext cx="45360" cy="428400"/>
            </a:xfrm>
            <a:prstGeom prst="downArrow">
              <a:avLst>
                <a:gd name="adj1" fmla="val 50000"/>
                <a:gd name="adj2" fmla="val 50370"/>
              </a:avLst>
            </a:prstGeom>
            <a:solidFill>
              <a:srgbClr val="da1f28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20"/>
            <p:cNvSpPr/>
            <p:nvPr/>
          </p:nvSpPr>
          <p:spPr>
            <a:xfrm>
              <a:off x="1373760" y="3429000"/>
              <a:ext cx="257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eaction force due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Centripetal accel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21"/>
            <p:cNvSpPr/>
            <p:nvPr/>
          </p:nvSpPr>
          <p:spPr>
            <a:xfrm>
              <a:off x="1509480" y="4143240"/>
              <a:ext cx="18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orce of Gra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1:21:02Z</dcterms:created>
  <dc:creator>rv</dc:creator>
  <dc:description/>
  <dc:language>en-US</dc:language>
  <cp:lastModifiedBy>rv</cp:lastModifiedBy>
  <dcterms:modified xsi:type="dcterms:W3CDTF">2010-04-25T09:21:34Z</dcterms:modified>
  <cp:revision>15</cp:revision>
  <dc:subject/>
  <dc:title>Circular Motion</dc:title>
</cp:coreProperties>
</file>